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D45-05B5-45BD-A861-D546E758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9A02-665B-425B-AE52-2A3F851D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C07-99AB-4F71-B7A9-2628B4AD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FDF-8155-416B-B1BC-9EA7BE04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580C-53C9-4B87-8EDF-DE108135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D75D-A4CD-40CB-84F4-4B3AA0EE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5710-ABAC-42F3-A6A4-A80028A9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002C-4F55-4D3B-AC40-F2642F37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3671-1491-4F2F-AB81-5195C5BE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3599-AEBC-47A6-B78B-622BA4B2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06ED-2685-4AD5-911C-621955F3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AD39-3378-45DE-B497-10389359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AF0B-B87A-4975-8DC6-A247D1C6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A042-9970-43D7-B03A-AE3E3B12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5243-671A-4EDE-BD43-0F7A9DB3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9C94-19C8-4FF2-9F70-44C6AA0B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E096-24CF-41EB-B31F-3ABFE518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8229-0062-426A-826F-24AD2901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EC65-B079-42E2-BED0-2FE19AD6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81F-ACE2-4908-B56E-FB802DA3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684-B8F4-47E3-932D-772A88E3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7FF1-9BB0-417F-8786-9884C768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0103-A2F6-424B-978E-AD3C4FC6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247-DAAD-4C45-A5B3-F10A3BB7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58E0-9047-42E0-B89F-88952564A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1692-8DFD-474B-829E-5D0B6D0CA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studentsoftheworld.info/sites/nat/img/15410_050620_penguins_vmed.widec&amp;imgrefurl=http://www.studentsoftheworld.info/sites/nat/15410.php&amp;h=442&amp;w=298&amp;sz=19&amp;hl=en&amp;start=4&amp;tbnid=ILJ5YFhOz5_PAM:&amp;tbnh=127&amp;tbnw=86&amp;prev=/images%3Fq%3Dpenguins%26gbv%3D2%26hl%3Den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m/imgres?imgurl=http://www.penguins.cl/penguin/gentoo-penguins.jpg&amp;imgrefurl=http://www.penguins.cl/penguins-intro.htm&amp;h=480&amp;w=640&amp;sz=26&amp;hl=en&amp;start=2&amp;tbnid=KJR8VU2xdnxuDM:&amp;tbnh=103&amp;tbnw=137&amp;prev=/images%3Fq%3Dpenguins%26gbv%3D2%26hl%3Den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falklandstravel.com/king%2520penguin%25201.JPG&amp;imgrefurl=http://www.tqnyc.org/NYC074444/King.html&amp;h=434&amp;w=465&amp;sz=26&amp;hl=en&amp;start=5&amp;tbnid=VbBncwY7CK49VM:&amp;tbnh=119&amp;tbnw=128&amp;prev=/images%3Fq%3Dpenguins%26gbv%3D2%26hl%3Den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simonc.f2o.org/south/images/penguin_island.jpg&amp;imgrefurl=http://simonc.f2o.org/south/archives/000145.php&amp;h=400&amp;w=600&amp;sz=66&amp;hl=en&amp;start=8&amp;tbnid=bIvvymzIM33d9M:&amp;tbnh=90&amp;tbnw=135&amp;prev=/images%3Fq%3Dpenguins%26gbv%3D2%26hl%3De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polarcruises.com/Images/art_Penguins_emperor_and_chick.jpg&amp;imgrefurl=http://www.polarcruises.com/articles.cfm%3Fpole%3Dantarctica%26mainnav%3Darticles%26curr_groupid%3D4%26curr_subgroupid%3D4&amp;h=359&amp;w=300&amp;sz=18&amp;hl=en&amp;start=7&amp;tbnid=oEBC93KkYmfzdM:&amp;tbnh=121&amp;tbnw=101&amp;prev=/images%3Fq%3Dpenguins%26gbv%3D2%26hl%3Den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animals.nationalgeographic.com/staticfiles/NGS/Shared/StaticFiles/animals/images/primary/emperor-penguins.jpg&amp;imgrefurl=http://animals.nationalgeographic.com/animals/printable/emperor-penguin.html&amp;h=324&amp;w=470&amp;sz=30&amp;hl=en&amp;start=10&amp;tbnid=_R1bD8JCPf9YrM:&amp;tbnh=89&amp;tbnw=129&amp;prev=/images%3Fq%3Dpenguins%26gbv%3D2%26hl%3De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pbs.org/wnet/nature/penguins/images/wallpaper/penguins_large.jpg&amp;imgrefurl=http://www.pbs.org/wnet/nature/penguins/&amp;h=768&amp;w=1024&amp;sz=148&amp;hl=en&amp;start=11&amp;tbnid=XT3_wMa6bKwJ6M:&amp;tbnh=113&amp;tbnw=150&amp;prev=/images%3Fq%3Dpenguins%26gbv%3D2%26hl%3Den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lettersfromnyc.mu.nu/archives/Emperor%2520Penguins.JPG&amp;imgrefurl=http://lettersfromnyc.mu.nu/archives/205988.php&amp;h=365&amp;w=471&amp;sz=32&amp;hl=en&amp;start=19&amp;tbnid=cj49_kubk-OWuM:&amp;tbnh=100&amp;tbnw=129&amp;prev=/images%3Fq%3Dpenguins%26gbv%3D2%26hl%3Den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ngui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Carly Coving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2743200"/>
            <a:ext cx="1962360" cy="3505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05720" y="1600200"/>
            <a:ext cx="19047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Do you know anything about Penguins? If not you will have to read on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2133720"/>
            <a:ext cx="2210040" cy="2819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191120" y="2362320"/>
            <a:ext cx="2867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Penguins eat krill, fish, and squid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guins’ favorite food to eat is kri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guins eat fish more often than anything el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3733920"/>
            <a:ext cx="3038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Penguins are different colors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guins are black on their backs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te on their bell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guins have orange on their bea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3886200"/>
            <a:ext cx="2209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Penguins are camouflage.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guins have black on their back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use it helps them blend 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an hide in dark places if the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wont to be foun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4419720"/>
            <a:ext cx="25909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he Emperor penguins are the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largest of the 17 species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mperor can be about 20 inch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mperor is the largest penguin on Ear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41148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Penguins can breathe under water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for 6 minutes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342900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514600"/>
            <a:ext cx="7772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find fish, krill, and squid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are under water all that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they stay under water for 6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jump up and come b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2200" y="4724280"/>
            <a:ext cx="15238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Now you know much about 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penguins!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895480" y="1981080"/>
            <a:ext cx="3353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20:11:58Z</dcterms:modified>
  <cp:revision>3</cp:revision>
  <dc:subject/>
  <dc:title>Animal Name</dc:title>
</cp:coreProperties>
</file>